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6.gif" ContentType="image/gif"/>
  <Override PartName="/ppt/media/image11.gif" ContentType="image/gif"/>
  <Override PartName="/ppt/media/image7.wmf" ContentType="image/x-wmf"/>
  <Override PartName="/ppt/media/image8.png" ContentType="image/png"/>
  <Override PartName="/ppt/media/image9.jpeg" ContentType="image/jpeg"/>
  <Override PartName="/ppt/media/image10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095B-5AE9-4C97-AD2B-5C5008050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CDB0-F9F5-44BC-B72D-7C6830045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7D73-301F-4030-9EC6-122A0A592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57D0-6F22-4371-8CB0-44B9B2023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9EDD-A8FB-4038-AF75-456D92A0E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FEE0-8CA7-4DDC-9DAF-D7422DBAB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BDD9-6110-4F26-BD48-A553FB98E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64D3-1F00-4D2F-97FA-0AA303679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BF6F-C016-444A-85D6-6D948D856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1711-24EC-45C8-8924-143D174F2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45E3-C577-4403-BF9A-87FF65A90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B18F-36A1-47D6-B052-A2D639EE1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8361D-2FFB-4170-A334-F2632766401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547640" y="333360"/>
            <a:ext cx="5688360" cy="2665080"/>
            <a:chOff x="1547640" y="333360"/>
            <a:chExt cx="5688360" cy="266508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1547640" y="333360"/>
              <a:ext cx="5688360" cy="263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2707560" y="2173320"/>
              <a:ext cx="31572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99"/>
                  </a:solidFill>
                  <a:latin typeface="Arial"/>
                </a:rPr>
                <a:t>Lesson 1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395280" y="3141720"/>
            <a:ext cx="82090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Danny’s Pla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1523880" y="2209680"/>
            <a:ext cx="6019920" cy="243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Language Points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50920" y="189000"/>
            <a:ext cx="8893080" cy="55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 Agriculture is all about growing plants and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raising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 animals for foo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农业是关于种植植物和</a:t>
            </a:r>
            <a:r>
              <a:rPr b="1" lang="zh-CN" sz="3600" spc="-1" strike="noStrike">
                <a:solidFill>
                  <a:srgbClr val="ff3399"/>
                </a:solidFill>
                <a:latin typeface="Times New Roman"/>
              </a:rPr>
              <a:t>饲养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动物作为食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raise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vt.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提高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;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筹集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;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养育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,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种植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,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饲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Don’t you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rais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your voice to me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别对我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高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声大气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raise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the money to buy the house and two hundred acres of la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他们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筹措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了资金来购买房子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0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英亩土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raises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2,000 acres of wheat and hay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他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种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了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00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英亩的小麦和饲料用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0920" y="189000"/>
            <a:ext cx="88930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 To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learn 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more about plants, we plant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some seed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为了了解更多植物（的知识），我们种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一些种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) learn vi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了解到，学，学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It is never too late to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lear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Times New Roman"/>
              </a:rPr>
              <a:t>学习永远不会太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Children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learn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faster than adul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Times New Roman"/>
              </a:rPr>
              <a:t>孩子比成人学得快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vt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学，学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How many English words have you learn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Times New Roman"/>
              </a:rPr>
              <a:t>你学了多少英语单词</a:t>
            </a:r>
            <a:r>
              <a:rPr b="1" lang="zh-CN" sz="3600" spc="-1" strike="noStrike">
                <a:solidFill>
                  <a:srgbClr val="0066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5" dur="5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8" dur="500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50920" y="189000"/>
            <a:ext cx="88930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) some adj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些，几个，常用于肯定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some flowers </a:t>
            </a:r>
            <a:r>
              <a:rPr b="1" lang="zh-CN" sz="3600" spc="-1" strike="noStrike">
                <a:solidFill>
                  <a:srgbClr val="cc0066"/>
                </a:solidFill>
                <a:latin typeface="Times New Roman"/>
              </a:rPr>
              <a:t>一些花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some beds </a:t>
            </a:r>
            <a:r>
              <a:rPr b="1" lang="zh-CN" sz="3600" spc="-1" strike="noStrike">
                <a:solidFill>
                  <a:srgbClr val="cc0066"/>
                </a:solidFill>
                <a:latin typeface="Times New Roman"/>
              </a:rPr>
              <a:t>几张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Times New Roman"/>
              </a:rPr>
              <a:t>辨析：</a:t>
            </a:r>
            <a:r>
              <a:rPr b="1" lang="zh-CN" sz="3600" spc="-1" strike="noStrike">
                <a:solidFill>
                  <a:srgbClr val="6600ff"/>
                </a:solidFill>
                <a:latin typeface="Times New Roman"/>
              </a:rPr>
              <a:t>some</a:t>
            </a:r>
            <a:r>
              <a:rPr b="1" lang="zh-CN" sz="3600" spc="-1" strike="noStrike">
                <a:solidFill>
                  <a:srgbClr val="6600ff"/>
                </a:solidFill>
                <a:latin typeface="Times New Roman"/>
              </a:rPr>
              <a:t>与</a:t>
            </a:r>
            <a:r>
              <a:rPr b="1" lang="zh-CN" sz="3600" spc="-1" strike="noStrike">
                <a:solidFill>
                  <a:srgbClr val="6600ff"/>
                </a:solidFill>
                <a:latin typeface="Times New Roman"/>
              </a:rPr>
              <a:t>a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som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ny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都有“一些”之意，都可修饰复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名词与不可数名词，表示不定的数量及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度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som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用于肯定句中，在请求、建议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疑问句中也用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som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ny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常用于否定、疑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句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I have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some 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book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Do you have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any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 friends in Americ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50920" y="189000"/>
            <a:ext cx="8893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476280"/>
            <a:ext cx="8424720" cy="48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但在表示建议，反问，请求的疑问句中，或期望得到肯定回答时，多用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som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而不用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ny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Would you like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some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coffee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Times New Roman"/>
              </a:rPr>
              <a:t>你要不要来点咖啡</a:t>
            </a:r>
            <a:r>
              <a:rPr b="1" lang="zh-CN" sz="3600" spc="-1" strike="noStrike">
                <a:solidFill>
                  <a:srgbClr val="006600"/>
                </a:solidFill>
                <a:latin typeface="Times New Roman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What about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some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fruit juice?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Times New Roman"/>
              </a:rPr>
              <a:t>来点水果汁如何</a:t>
            </a:r>
            <a:r>
              <a:rPr b="1" lang="zh-CN" sz="3600" spc="-1" strike="noStrike">
                <a:solidFill>
                  <a:srgbClr val="006600"/>
                </a:solidFill>
                <a:latin typeface="Times New Roman"/>
              </a:rPr>
              <a:t>?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0920" y="189000"/>
            <a:ext cx="8893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4000" y="189000"/>
            <a:ext cx="8640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3. Now something new is growing at the top of the ste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现在在茎的顶端正长着一种新的东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) something new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新的东西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every, some, any, no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one, body, thing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组合起来的词叫不定代词。不定代词做主语，谓语动词用第三人称单数。当不定代词带有形容词时，形容词放后面，做后置定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Someone important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will give the students a lecture this afternoo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Times New Roman"/>
              </a:rPr>
              <a:t>今天下午，一位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重要的人物</a:t>
            </a:r>
            <a:r>
              <a:rPr b="1" lang="zh-CN" sz="3600" spc="-1" strike="noStrike">
                <a:solidFill>
                  <a:srgbClr val="006600"/>
                </a:solidFill>
                <a:latin typeface="Times New Roman"/>
              </a:rPr>
              <a:t>将给学生们做一场报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50920" y="189000"/>
            <a:ext cx="8893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189000"/>
            <a:ext cx="8640720" cy="60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) at the top of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在顶部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顶端，其反义短语是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t the bottom of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在底部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on (the) top of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在高处，反义短语是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t the foot of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在脚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Please write your telephone number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at the top of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 this pag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Times New Roman"/>
              </a:rPr>
              <a:t>请把你的电话号码写在这页纸上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There is a tower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on top of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 that high mountai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Times New Roman"/>
              </a:rPr>
              <a:t>那座高山顶上有座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50920" y="189000"/>
            <a:ext cx="8893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4000" y="189000"/>
            <a:ext cx="8424720" cy="60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top   n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顶，上面；一流的，顶尖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Can you see the white house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on top of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 the hill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Times New Roman"/>
              </a:rPr>
              <a:t>你能看见山顶上那幢白房子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He is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one of the top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 students in his clas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Times New Roman"/>
              </a:rPr>
              <a:t>他是班里的一名尖子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Times New Roman"/>
              </a:rPr>
              <a:t>注：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on top of the world </a:t>
            </a:r>
            <a:r>
              <a:rPr b="1" lang="zh-CN" sz="3600" spc="-1" strike="noStrike">
                <a:solidFill>
                  <a:srgbClr val="cc0066"/>
                </a:solidFill>
                <a:latin typeface="Times New Roman"/>
              </a:rPr>
              <a:t>高兴到了极点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at the top of one’s voice </a:t>
            </a:r>
            <a:r>
              <a:rPr b="1" lang="zh-CN" sz="3600" spc="-1" strike="noStrike">
                <a:solidFill>
                  <a:srgbClr val="cc0066"/>
                </a:solidFill>
                <a:latin typeface="Times New Roman"/>
              </a:rPr>
              <a:t>高声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50920" y="189000"/>
            <a:ext cx="8893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4000" y="189000"/>
            <a:ext cx="8569080" cy="56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I’m going to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look after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 my plan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carefully.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将仔细照看我的植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look after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照顾；照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My job is to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look after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these patien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的工作就是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照顾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好这些病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They think about survival. They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look after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their own peop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他们考虑的是生存，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关心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是自己的人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7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857160" cy="857160"/>
          </a:xfrm>
          <a:prstGeom prst="rect">
            <a:avLst/>
          </a:prstGeom>
          <a:ln w="0">
            <a:noFill/>
          </a:ln>
        </p:spPr>
      </p:pic>
      <p:grpSp>
        <p:nvGrpSpPr>
          <p:cNvPr id="85" name=""/>
          <p:cNvGrpSpPr/>
          <p:nvPr/>
        </p:nvGrpSpPr>
        <p:grpSpPr>
          <a:xfrm>
            <a:off x="2133720" y="838080"/>
            <a:ext cx="4668840" cy="1022400"/>
            <a:chOff x="2133720" y="838080"/>
            <a:chExt cx="4668840" cy="1022400"/>
          </a:xfrm>
        </p:grpSpPr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>
              <a:off x="2133720" y="838080"/>
              <a:ext cx="4668840" cy="10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 txBox="1"/>
            <p:nvPr/>
          </p:nvSpPr>
          <p:spPr>
            <a:xfrm>
              <a:off x="2482920" y="1101600"/>
              <a:ext cx="410364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ffff"/>
                    </a:solidFill>
                    <a:miter/>
                  </a:ln>
                  <a:solidFill>
                    <a:srgbClr val="ffff99"/>
                  </a:solidFill>
                  <a:latin typeface="Arial"/>
                </a:rPr>
                <a:t>Time for Reflection </a:t>
              </a:r>
              <a:endParaRPr b="1" lang="en-US" sz="1800" spc="1" strike="noStrike">
                <a:ln w="9360">
                  <a:solidFill>
                    <a:srgbClr val="00ffff"/>
                  </a:solidFill>
                  <a:miter/>
                </a:ln>
                <a:solidFill>
                  <a:srgbClr val="ffff99"/>
                </a:solidFill>
                <a:latin typeface="Arial"/>
                <a:ea typeface="Arial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950760" y="3002040"/>
            <a:ext cx="2181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2708280"/>
            <a:ext cx="331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at the top of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a flower b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look 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turn i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43280" y="2708280"/>
            <a:ext cx="3673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……顶端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顶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花骨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照顾；照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变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1773360"/>
            <a:ext cx="2952720" cy="49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gricul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e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pr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reful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51280" y="1700280"/>
            <a:ext cx="5292720" cy="49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n.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农业；农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n.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种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n.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盆；壶；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v.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发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n.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茎；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n.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芽；苞；花蕾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v.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发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adv.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仔细地；小心翼翼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n.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院子；场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835280" y="189000"/>
            <a:ext cx="5832360" cy="1439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627280" y="54936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Times New Roman"/>
              </a:rPr>
              <a:t>Words &amp; 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826920" y="549360"/>
            <a:ext cx="4106880" cy="50464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659640" y="3860640"/>
            <a:ext cx="1279440" cy="12924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435640" y="2708280"/>
            <a:ext cx="3240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注：另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文档，点此链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33520" y="1488960"/>
            <a:ext cx="7993080" cy="50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 have a lot _______ about tod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. write              B. writ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. to write          D. writt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I haven’t ____ in my diary for a wee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. write             B. wrote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. writes           D. writt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2360" y="811080"/>
            <a:ext cx="37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Times New Roman"/>
              </a:rPr>
              <a:t>I. Multiple choi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63560" y="2895480"/>
            <a:ext cx="889200" cy="9144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886200" y="5029200"/>
            <a:ext cx="888840" cy="9144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80880" y="380880"/>
            <a:ext cx="8664840" cy="57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Agriculture is about _____ plants 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aising animals for foo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. growing           B. grow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. grows               D. to gr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______ _______ have taken plac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her hometow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. Something important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. Important someth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814320" cy="8380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11280" y="4653000"/>
            <a:ext cx="814320" cy="8380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50920" y="260280"/>
            <a:ext cx="8664480" cy="60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Times New Roman"/>
              </a:rPr>
              <a:t>Ⅱ</a:t>
            </a:r>
            <a:r>
              <a:rPr b="1" lang="en-US" sz="3600" spc="-1" strike="noStrike">
                <a:solidFill>
                  <a:srgbClr val="6600ff"/>
                </a:solidFill>
                <a:latin typeface="Times New Roman"/>
              </a:rPr>
              <a:t>. Fill in the blank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22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new policy promoted the development of a__________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22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old man likes r_______ rabbits, chickens, dogs and horse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The seed I planted s_______ yesterd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In the fairy tale the frog t_____ _____ 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inc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5640" y="1989000"/>
            <a:ext cx="218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gricul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852640"/>
            <a:ext cx="138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ai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43280" y="436572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prou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24360" y="501336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urned   i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50920" y="260280"/>
            <a:ext cx="8664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333360"/>
            <a:ext cx="8496360" cy="60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5. Something ____ wrong with his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omput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6. I have ___________________ 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些趣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to tell you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7. I have some clothes _________ 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洗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8. Mr Wang is confident they'll be able t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_____ ____ 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照顾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)themselv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9. After all they are _____________ 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在…顶端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) their indust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32000" y="333360"/>
            <a:ext cx="5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24000" y="1700280"/>
            <a:ext cx="470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omething  interes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788000" y="2997360"/>
            <a:ext cx="182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o wa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35120" y="4441680"/>
            <a:ext cx="218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26920" y="436572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look  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284720" y="49417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t the top 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203640" y="1052640"/>
            <a:ext cx="417672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Homewor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6000" y="404640"/>
            <a:ext cx="1828800" cy="16956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826920" y="2708280"/>
            <a:ext cx="784872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view Lesson 12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. Write a passage about what kind of plant you want to grow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2700360" y="620640"/>
            <a:ext cx="38098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Arial Black"/>
              </a:rPr>
              <a:t>Preview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18" name=""/>
          <p:cNvSpPr/>
          <p:nvPr/>
        </p:nvSpPr>
        <p:spPr>
          <a:xfrm>
            <a:off x="1116000" y="2565360"/>
            <a:ext cx="7162920" cy="30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Learn the words and phrases i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Lesson 13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. Underline the sentences you don’t understand on page 34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340000" y="189000"/>
            <a:ext cx="41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Growing p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76360" y="1557360"/>
            <a:ext cx="5975280" cy="4032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588000" y="4724280"/>
            <a:ext cx="863640" cy="7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590920" y="838080"/>
            <a:ext cx="39621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6699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Think about it!</a:t>
            </a:r>
            <a:endParaRPr b="1" lang="en-US" sz="1800" spc="1" strike="noStrike">
              <a:ln w="12600">
                <a:solidFill>
                  <a:srgbClr val="ff6699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71640" y="2422440"/>
            <a:ext cx="7632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. What is agricul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. What kind of plants do you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ant to gr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11280" y="1628640"/>
            <a:ext cx="8001000" cy="32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o understand the dia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To learn some useful words and expressions to talk about how a plant grow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o learn to use indefinite pronou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268360" y="189000"/>
            <a:ext cx="4405320" cy="1138320"/>
            <a:chOff x="2268360" y="189000"/>
            <a:chExt cx="4405320" cy="1138320"/>
          </a:xfrm>
        </p:grpSpPr>
        <p:pic>
          <p:nvPicPr>
            <p:cNvPr id="56" name="" descr=""/>
            <p:cNvPicPr/>
            <p:nvPr/>
          </p:nvPicPr>
          <p:blipFill>
            <a:blip r:embed="rId1"/>
            <a:stretch/>
          </p:blipFill>
          <p:spPr>
            <a:xfrm>
              <a:off x="2268360" y="189000"/>
              <a:ext cx="4405320" cy="113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3337200" y="452520"/>
              <a:ext cx="2109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objective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blinds dir="horz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826920" y="1052640"/>
            <a:ext cx="727236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Words: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agriculture,  seed,   pot,   sprout, carefully,      yard,  stem,  bu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00000" y="3357720"/>
            <a:ext cx="763272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hras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at the top of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a flower b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look 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0" t="0" r="0" b="22623"/>
          <a:stretch/>
        </p:blipFill>
        <p:spPr>
          <a:xfrm>
            <a:off x="7812000" y="620640"/>
            <a:ext cx="1008000" cy="96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58760" y="193680"/>
            <a:ext cx="376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Times New Roman"/>
              </a:rPr>
              <a:t>Read and answ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1840" y="985680"/>
            <a:ext cx="89121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What did Danny and his classmates do to  learn more about pla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hey planted some seed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What happened after Danny watered the seed of his plan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t sprouted a few days later. Soon, it grew  a stem and a leaf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58760" y="193680"/>
            <a:ext cx="376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Times New Roman"/>
              </a:rPr>
              <a:t>Read and answ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1840" y="1268280"/>
            <a:ext cx="891216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Why will Danny put the pot in the yar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Because his plant can get sunshin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What does Danny want to send to Li M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He wants to send some seeds to Li M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87480" y="266760"/>
            <a:ext cx="9056520" cy="60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Complete the sentenc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bud opens up and becomes a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______grows under the ground and gets water from the soi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_______is the long thin part of a pla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are parts of a plant. They grow from a stem, from a branch or directly from the roo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04000" y="1197000"/>
            <a:ext cx="189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lo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1844640"/>
            <a:ext cx="146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e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16000" y="33577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4360" y="407664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Lea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5T13:51:13Z</dcterms:created>
  <dc:creator/>
  <dc:description/>
  <dc:language>en-US</dc:language>
  <cp:lastModifiedBy>PCoS</cp:lastModifiedBy>
  <dcterms:modified xsi:type="dcterms:W3CDTF">2014-03-05T13:51:30Z</dcterms:modified>
  <cp:revision>1</cp:revision>
  <dc:subject/>
  <dc:title>幻灯片 1</dc:title>
</cp:coreProperties>
</file>